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29B0-78E6-445A-8839-9CC27956E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DAC-4DE9-42EE-A9C2-5C8B7962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937-9F52-48AD-BB76-BA712C97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BC1-556E-4684-BC93-2470A1B6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6D6B-52C6-408C-941C-B0C8F303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B6F-EA7A-4497-935F-51C7B5A1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F67-1CDF-4C5F-9D4D-70BBAC62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9F0-97A6-4D2A-84B0-E96BDC5F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927-6E5F-4D67-9397-936E3929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427-77F0-4742-8FFD-2657BAD7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AA29-CC69-4122-9220-418BC98A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8920-3996-4DC2-AF1F-4566AA0A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BCFF-BA0D-409D-B5D1-DDE8616CBC65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6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ükk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ükki Nemzeti Park Magyarország legnagyobb hegyvidéki, erdős nemzeti parkj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áltozatos területén igen gazdag növényvilág figyelhető meg, az itt előforduló állatfajok száma 22 ezer körü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43 ezer hektáros területéből 5730 hektár fokozottan védet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una-Ipoly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 Duna-Ipoly Nemzeti Park Budapesttől északi irányban, a Pilis és a Börzsöny hegység nagyobb részén, a Duna és az Ipoly folyók között helyezkedik 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öbb mint 60 ezer hektárnyi terület egyediségét a folyóvölgyek, a hegységek és a síkság találkozása adja. Legszebb vidéke a Dunakanyar, amely a folyónak a Börzsöny és a Visegrádi-hegység közötti, több ezer éve lezajlott áttörésének helyszí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Dunán kialakult kisebb-nagyobb szigetek Esztergom és Budapest között szintén részei a nemzeti parknak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6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Duna-Dráva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Duna-Dráva Nemzeti Park a Dél-Dunántúl térségéből 49 478 hektárnyi területet fog egy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ülönösen értékes élőhelyek védetté nyilvánításának céljául a folyók, mellékágrendszerük, valamint az érintett területek természeti értékeinek, a felszíni és felszín alatti vízkészleteknek, továbbá az érintett területek erdeinek, termőtalajának és más, megújuló természeti erőforrásainak védelmét jelölték me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85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ggtelek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Aggteleki-karszt vidékén alapított Aggteleki Nemzeti Park több mint 20 ezer hektáros területe különleges természeti értékeket vé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egismertebb az a barlangrendszer, amely - a Szlovák-karszt barlangjaival együtt - 1995-től a Világörökség rés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élőlények védelmén túl a nemzeti park hivatott az egész táj képének fenntartására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5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iskunság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iskunsági Nemzeti Parkban a természeti és néprajzi értékek együttese figyelhető me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48 ezer hektárnyi területű parkban 23 ezer hektár bioszféra rezervát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ét nagy halastórendszere - a Fehér-tó és a Csaj-tó - madárvilágáról hí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1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Fertő-Hanság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Magyarország és Ausztria határán fekvő Fertő-Hanság Nemzeti Park az egykor hatalmas mocsár- és lápvilág egyedülálló növény- és állattani, tájképi, néprajzi és kultúrtörténeti értékeinek menedékhel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osztrák részét, az 1992-ben létrehozott, 9500 hektáros Nationalpark Neusiedler See-Seewinkel-t 1994-ben kapcsolták össze a 23 587 hektáros magyar területt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parkhoz tartozó Fertő-tó és környéke a Világörökség rés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Balaton-felvidéki Nemzeti Par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Balaton-felvidéki Nemzeti Park a Balaton északi partvidékéhez kapcsolódva, nyugat felé egyre szélesedő sávban húzódik a Kis-Balaton térségé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Összterülete 56 997 hektár, melyből 10 471 hektár fokozott védelem alatt á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 területi egységei: a Tihanyi-félsziget, a Pécselyi-medence, a Káli-medence, a  Tapolcai-medence és a tanúhegyek, Zala és Somogy megyében a Keszthelyi-hegység és a Kis-Balaton, továbbá a teljes Balaton-part és a Balaton öblei. 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97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Körös-Maros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Körös-Maros Nemzeti Park a romániai hegységek lábától a Tiszáig húzódó, egyedi arculatú táj megmaradt értékeit igyekszik megőriz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ek jó része a vízhez kötődik: a Körösök és a Maros folyó vízrendszeréhez, az ártéri erdőkhöz, a Sárrét környéki mocsárfoltokho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z 51 125 hektárnyi területű nemzeti parkban a kardoskúti Fehér-tó és a Biharugrai halastavak vizes élőhelyeinek szerepe a madárvonulásban nemzetközileg is jelentős, a tájegység a Ramsari egyezmény hatálya alá tartozik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1973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Hortobágy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 Hortobágyi Nemzeti Park az európai kontinens legnagyobb szikes pusztá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rülete 81 ezer hektá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hortobágyi puszta 1999 óta a Világörökség rész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2002</a:t>
            </a:r>
            <a:br>
              <a:rPr sz="4400"/>
            </a:b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Őrségi Nemzeti P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nemzeti parkot korábban az 1978-ban alapított Őrségi Tájvédelmi Körzetből, valamint a természet közeli állapotban lévő környező területekből alakították 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43 933 hektárnyi nemzeti parkból 3104 hektár fokozottan véde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Ez az ország legnyugatibb vidéke, ahol a népi hagyományok és szokások változatlan formában napjainkig megőrződtek.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8T19:07:58Z</dcterms:created>
  <dc:creator>Korosi_laptop</dc:creator>
  <dc:description/>
  <dc:language>en-US</dc:language>
  <cp:lastModifiedBy>Korosi_laptop</cp:lastModifiedBy>
  <dcterms:modified xsi:type="dcterms:W3CDTF">2008-05-18T19:08:29Z</dcterms:modified>
  <cp:revision>1</cp:revision>
  <dc:subject/>
  <dc:title>1976 Bükki Nemzeti Park</dc:title>
</cp:coreProperties>
</file>